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4CA-C1C4-45B9-AC3F-E3F1AB60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CD7-90C3-45E2-B749-7DEB65B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6A0-E27E-4B16-BF0C-E5C81269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3C1-D7B1-4CB6-A36C-94DC1436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C5C-0C73-44A7-98D1-A0726DF8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D9D-CB39-4E64-A855-F8352532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7FF3-2B8F-46FC-B7FC-9B9285F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58B1-1812-4DAE-B86E-BC43BD5F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D2DF-087B-4CAD-9944-A790025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3F2A-157A-4479-A1D3-75F7E18B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A455-BD39-4D57-85DC-D6BAAAD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578-08EB-47E9-9152-BE841C9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2B5B-0827-4961-A095-C30C8CC5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4E31-F482-4107-BEE1-89F576E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2DA9-4308-4D36-8129-7C17FDE8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581-972A-45C7-811A-3A24F2EE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8143-3CEE-480C-B47C-CBA5F581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9D5-1ECC-4D2E-857D-E5CF1A6A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1BE-3DD6-426F-8E73-7234495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989-F4A0-4482-9C6D-9CA2058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971-FFBB-4796-A85C-4CD9798A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7F7-73FF-477F-804A-5E06832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D0A-750D-4140-BBDA-FB32CE7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5C1-091C-43A5-A52F-71A3A0E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1402-A91A-4087-ADEC-3D6DE99C16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5B7B-03DF-41B1-B208-ED79DFA2C3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A Política de Aristóte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A degeneração das formas de governo ocorre paralelamente a estas categorias: na monarquia corrompida, o monarca vira-se para a sua utilidade e descura a geral, passando-se assim a uma tirania; na oligarquia, que é a corrupção da aristocracia, desvia-se o governo para a utilidade dos ricos; finalmente, a 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politeia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 pode corromper-se numa forma de governo somente preocupada com a utilidade dos pobres ou dos mais desfavorecidos</a:t>
            </a: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 essa forma de governo chama Aristóteles democracia… Mas sabemos que há que ter cuidado com as designações, e muito especialmente com as do governo por muitos, seja na forma pura, seja na corrupta – questão já analisada pelo próprio Estagirita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ristóteles especifica e desenvolve cada forma de governo, por exemplo elencando quatro (ou cinco) tipos-ideais de monarquia, ou comentando o problema de que, não sendo embora normal, pode haver mais ricos que pobres em casos muito excepcionais – o que coloca problemas de classificação.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Também admite fórmulas um tanto mistas, que acabam por ter o nome de “República”. A “República” é assim uma forma louvada por Aristóteles que curiosamente associa elementos de duas formas degeneradas: a oligarquia e a democraci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sta forma de governo assenta socialmente na classe média, combinando dois princípios que de algum modo se equilibrariam: a riqueza, princípio oligárquico, e a liberdade, princípio democrático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 Aristóteles louvará a classe média, considerando, nomeadamente, com o apoio de várias autoridades e exemplos, que os melhores legisladores foram precisamente pessoas de medianas posses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Mas, evidentemente, a concepção de democracia de Aristóteles, mesmo quando não é usada com uma conotação negativa, tem diferenças relativamente à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vox populi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de hoje: por exemplo, para o Filósofo é próprio da democracia o sorteio dos magistrados, e da oligarquia a eleição. 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 tirania é sem hesitação qualificada como o pior dos governos. Seguida da oligarquia, que se distingue muito da aristocracia, de onde deriva, a qual comporta também várias modalidades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ristóteles deixa claro que nem a oligarquia é o regime da minoria, nem, correlativamente, a democracia é o da maioria. Antes a primeira é o domínio dos ricos, e a segunda dos homens livres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Também a democracia tem diversas formas. O grande problema surge quando as leis não têm força e irrompem da multidão os demagogos. E então o povo se volve em tirania – temos uma descrição real! –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os bajuladores são honrados e os homens de bem sujeitados. O mesmo arbítrio reina nos decretos do povo e nas ordens dos tiranos. Trata-se dos mesmos costumes. O que fazem os bajuladores de corte junto a estes, fazem os demagogos junto ao povo.”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 é nesta corrupção da lei, da magistratura, do clima geral, que o Filósofo vê justificação para que tal caos se não chame República, mas democracia, ou então nem isso – como citamos anteriormente.</a:t>
            </a:r>
            <a:br>
              <a:rPr sz="3000"/>
            </a:b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800" spc="-1" strike="noStrike">
                <a:solidFill>
                  <a:srgbClr val="ffffff"/>
                </a:solidFill>
                <a:latin typeface="Verdana"/>
              </a:rPr>
              <a:t>Os Poderes</a:t>
            </a:r>
            <a:r>
              <a:rPr b="0" lang="pt-BR" sz="3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O celebrado Montesquieu, tido por pai absoluto da separação dos poderes, não os criou do nada, como pretendeu no exergo latino do seu 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De l’Esprit des Lois, 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citando Ovídio: “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Prolem sine matre creatam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“. Além de ter tido John Locke como inspirador mais direto, conhecia evidentemente o clássico Aristóteles. Os poderes, a traços largos, já estão nas </a:t>
            </a:r>
            <a:r>
              <a:rPr b="0" i="1" lang="pt-PT" sz="2600" spc="-1" strike="noStrike">
                <a:solidFill>
                  <a:srgbClr val="ffffff"/>
                </a:solidFill>
                <a:latin typeface="Comic Sans MS"/>
              </a:rPr>
              <a:t>Políticas</a:t>
            </a: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 do Estagirita.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mic Sans MS"/>
              </a:rPr>
              <a:t>Em todas as constituições vê Aristóteles, com vivo discernimento, precisamente três poderes: um poder deliberativo, que compete a uma Assembléia, e que muito se assemelha ao nosso legislativo; um poder de magistraturas governamentais, a que nós chamaríamos (com menos propriedade, porém) executivo; e um poder judicial.</a:t>
            </a:r>
            <a:br>
              <a:rPr sz="2600"/>
            </a:b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Há, evidentemente, várias formas de assembléias deliberativas. Importa sobretudo salientar que quando as deliberações sobre todas as matérias pertinentes a este poder são decididas por todos os cidadãos, nos encontramos em democracia. Mesmo assim, existem diversas formas de esta deliberação igualitária se poder exercer.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Mas há a possibilidade de os poderes se encontrarem divididos. Nesse caso, estaremos numa aristocracia ou numa república. Havendo possibilidades mistas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No domínio do poder executivo, Aristóteles demora-se nos diferentes cargos, não esquecendo propostas interessantes (e ainda atuais nos nossos dias) como a da rotatividade dos cargos de carcereiros, a conveniência da não acumulação de cargos e da não renovação de mandatos, a não ser após longos intervalos, e mesmo assim só em alguns casos.</a:t>
            </a: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Embora Aristóteles não esqueça, no domínio do executivo a que chamaríamos administração pública, vários cargos de índole ou implicações jurídicas, é sobretudo descritivo nas formas de que se pode revestir o judiciário.</a:t>
            </a: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Isabela Tivanello  e Jeniffer Zanetti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Na filosofia aristotélica a política é um desdobramento natural da ética. Ambas, na verdade, compõem a unidade do que Aristóteles chamava de filosofia prática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Se a ética está preocupada com 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felicidade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individual do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homem,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olítica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se preocupa com a felicidade coletiva d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ólis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. Desse modo, é tarefa d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olítica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investigar e descobrir quais são as formas de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governo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e as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instituições 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capazes de assegurar a felicidade coletiva. Trata-se, portanto, de investigar 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constituição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do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estado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.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credita-se que as reflexões aristotélicas sobre a política originam-se da época em que ele era preceptor de Alexandre, o Grande.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Comic Sans MS"/>
              </a:rPr>
              <a:t>As Formas de Governo e os Poderes</a:t>
            </a:r>
            <a:br>
              <a:rPr sz="3000"/>
            </a:b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As Formas de Governo</a:t>
            </a:r>
            <a:br>
              <a:rPr sz="3000"/>
            </a:b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Aristóteles utiliza dois critérios combinados para determinar as formas de constituição: o número de governantes e a sua inclinação para a Justiça</a:t>
            </a:r>
            <a:r>
              <a:rPr b="0" lang="pt-PT" sz="3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ffffff"/>
                </a:solidFill>
                <a:latin typeface="Comic Sans MS"/>
              </a:rPr>
              <a:t>Considerando-se governo o supremo poder numa sociedade política, a questão das constituições reconduz-se à das formas de governo. O critério da justiça das constituições reforça esta ideia, na medida em que a avaliação da justiça, numa constituição, se aquilata pela forma concreta pela qual, seja um, sejam vários, sejam todos (aqui entra o critério do número) os governantes se inclinam a prezar mais a felicidade geral que a própria.</a:t>
            </a:r>
            <a:br>
              <a:rPr sz="2500"/>
            </a:br>
            <a:br>
              <a:rPr sz="1900"/>
            </a:br>
            <a:r>
              <a:rPr b="0" lang="pt-BR" sz="19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Há assim (pela variação do número de governantes) várias modalidades de constituições justas, e cada uma delas pode engendrar, em certas condições de corrupção, a respectiva forma injusta.</a:t>
            </a:r>
            <a:r>
              <a:rPr b="0" lang="pt-BR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Nestes termos, na monarquia um príncipe honesto, e único, vela pelo interesse comum; na aristocracia o encargo da felicidade . pública é cometido a um grupo, escolhido de entre os mais honestos; e na </a:t>
            </a:r>
            <a:r>
              <a:rPr b="0" i="1" lang="pt-PT" sz="3000" spc="-1" strike="noStrike">
                <a:solidFill>
                  <a:srgbClr val="ffffff"/>
                </a:solidFill>
                <a:latin typeface="Comic Sans MS"/>
              </a:rPr>
              <a:t>politeia</a:t>
            </a:r>
            <a:r>
              <a:rPr b="0" lang="pt-PT" sz="3000" spc="-1" strike="noStrike">
                <a:solidFill>
                  <a:srgbClr val="ffffff"/>
                </a:solidFill>
                <a:latin typeface="Comic Sans MS"/>
              </a:rPr>
              <a:t> (cuja tradução, como sabemos, oscila entre república, democracia e até estado constitucional) é a multidão que governa para a utilidade comu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01:49Z</dcterms:created>
  <dc:creator>user</dc:creator>
  <dc:description/>
  <dc:language>en-US</dc:language>
  <cp:lastModifiedBy>Escola</cp:lastModifiedBy>
  <dcterms:modified xsi:type="dcterms:W3CDTF">2009-09-09T12:28:51Z</dcterms:modified>
  <cp:revision>4</cp:revision>
  <dc:subject/>
  <dc:title>A Política de Aristóteles</dc:title>
</cp:coreProperties>
</file>